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34D9-5299-489A-AFB2-AFCF79691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2315-5148-4F4B-88EE-1920ADCE9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7766-64E4-4C6B-A5EE-7A8873A7E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C223-7FE1-44BB-A67A-306D8D304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D8BE-5771-4A17-91C8-9435C04AF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412E-5952-4CF8-89AD-A8F874AA1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279B-B825-45A5-BFB3-B3774CACC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39A0-13AE-42AA-8B4F-EA141A951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1266-E3FD-4F7E-85FB-DDBB21FAC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283A-CAFD-43B8-822F-42841224D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6653-5DBE-44B0-9076-F073B06A8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AFB5-9C59-4F95-9484-30B29D3C2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5F661-3AFF-4615-9B02-34A6D903A7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3505320"/>
            <a:ext cx="815328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Calibri"/>
                <a:cs typeface="Angsana New"/>
              </a:rPr>
              <a:t>การพัฒนาหลักสูตรและการจัดกระบวนการเรียนการสอ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1523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7200" spc="-1" strike="noStrike">
                <a:solidFill>
                  <a:srgbClr val="3333cc"/>
                </a:solidFill>
                <a:latin typeface="Calibri"/>
                <a:cs typeface="Cordia New"/>
              </a:rPr>
              <a:t>กลุ่มที่ </a:t>
            </a:r>
            <a:r>
              <a:rPr b="1" lang="en-US" sz="7200" spc="-1" strike="noStrike">
                <a:solidFill>
                  <a:srgbClr val="3333cc"/>
                </a:solidFill>
                <a:latin typeface="Calibri"/>
              </a:rPr>
              <a:t>3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295280" y="15228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3333cc"/>
                </a:solidFill>
                <a:latin typeface="Calibri"/>
                <a:cs typeface="Cordia New"/>
              </a:rPr>
              <a:t>สมาชิกกลุ่มที่ </a:t>
            </a:r>
            <a:r>
              <a:rPr b="1" lang="en-US" sz="3200" spc="-1" strike="noStrike">
                <a:solidFill>
                  <a:srgbClr val="3333cc"/>
                </a:solidFill>
                <a:latin typeface="Calibri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838080" y="762120"/>
          <a:ext cx="7772400" cy="5559480"/>
        </p:xfrm>
        <a:graphic>
          <a:graphicData uri="http://schemas.openxmlformats.org/drawingml/2006/table">
            <a:tbl>
              <a:tblPr/>
              <a:tblGrid>
                <a:gridCol w="644760"/>
                <a:gridCol w="2409840"/>
                <a:gridCol w="2341440"/>
                <a:gridCol w="2376360"/>
              </a:tblGrid>
              <a:tr h="280080"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600" spc="-1" strike="noStrike">
                          <a:solidFill>
                            <a:srgbClr val="000000"/>
                          </a:solidFill>
                          <a:latin typeface="Browallia New"/>
                          <a:cs typeface="Angsana New"/>
                        </a:rPr>
                        <a:t>ที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600" spc="-1" strike="noStrike">
                          <a:solidFill>
                            <a:srgbClr val="000000"/>
                          </a:solidFill>
                          <a:latin typeface="Browallia New"/>
                          <a:cs typeface="Angsana New"/>
                        </a:rPr>
                        <a:t>ชื่อ</a:t>
                      </a:r>
                      <a:r>
                        <a:rPr b="1" lang="th-TH" sz="1600" spc="-1" strike="noStrike">
                          <a:solidFill>
                            <a:srgbClr val="000000"/>
                          </a:solidFill>
                          <a:latin typeface="Browallia New"/>
                          <a:ea typeface="Angsana New"/>
                        </a:rPr>
                        <a:t>-</a:t>
                      </a:r>
                      <a:r>
                        <a:rPr b="1" lang="th-TH" sz="1600" spc="-1" strike="noStrike">
                          <a:solidFill>
                            <a:srgbClr val="000000"/>
                          </a:solidFill>
                          <a:latin typeface="Browallia New"/>
                          <a:cs typeface="Angsana New"/>
                        </a:rPr>
                        <a:t>สกุ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600" spc="-1" strike="noStrike">
                          <a:solidFill>
                            <a:srgbClr val="000000"/>
                          </a:solidFill>
                          <a:latin typeface="Browallia New"/>
                          <a:cs typeface="Angsana New"/>
                        </a:rPr>
                        <a:t>ตำแหน่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600" spc="-1" strike="noStrike">
                          <a:solidFill>
                            <a:srgbClr val="000000"/>
                          </a:solidFill>
                          <a:latin typeface="Browallia New"/>
                          <a:cs typeface="Angsana New"/>
                        </a:rPr>
                        <a:t>สังกัด หน่วยงาน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</a:tr>
              <a:tr h="280080"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gsana New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Browallia New"/>
                          <a:cs typeface="Angsana New"/>
                        </a:rPr>
                        <a:t>รศ</a:t>
                      </a: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Browallia New"/>
                          <a:ea typeface="Angsana New"/>
                        </a:rPr>
                        <a:t>.</a:t>
                      </a: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Browallia New"/>
                          <a:cs typeface="Angsana New"/>
                        </a:rPr>
                        <a:t>ศรีสนิท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gsana New"/>
                          <a:ea typeface="Cordia New"/>
                        </a:rPr>
                        <a:t>  </a:t>
                      </a: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Angsana New"/>
                          <a:cs typeface="Cordia New"/>
                        </a:rPr>
                        <a:t>อินทรมณ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gsana New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Browallia New"/>
                          <a:cs typeface="Angsana New"/>
                        </a:rPr>
                        <a:t>มหาวิทยาลัยมหิด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9520"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gsana New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Browallia New"/>
                          <a:cs typeface="Angsana New"/>
                        </a:rPr>
                        <a:t>รศ</a:t>
                      </a: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Browallia New"/>
                          <a:ea typeface="Angsana New"/>
                        </a:rPr>
                        <a:t>.</a:t>
                      </a: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Browallia New"/>
                          <a:cs typeface="Angsana New"/>
                        </a:rPr>
                        <a:t>พิเชฏฐ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gsana New"/>
                          <a:ea typeface="Cordia New"/>
                        </a:rPr>
                        <a:t>  </a:t>
                      </a: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Angsana New"/>
                          <a:cs typeface="Cordia New"/>
                        </a:rPr>
                        <a:t>กาลามเกษตร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Browallia New"/>
                          <a:cs typeface="Angsana New"/>
                        </a:rPr>
                        <a:t>รองคณบดีฝ่ายการศึกษา</a:t>
                      </a:r>
                      <a:br>
                        <a:rPr sz="1600"/>
                      </a:b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Angsana New"/>
                          <a:cs typeface="Cordia New"/>
                        </a:rPr>
                        <a:t>คณะมนุษยศาสตร์และสังคมศาสตร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Browallia New"/>
                          <a:cs typeface="Angsana New"/>
                        </a:rPr>
                        <a:t>มหาวิทยาลัยมหิด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080"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gsana New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Browallia New"/>
                          <a:cs typeface="Angsana New"/>
                        </a:rPr>
                        <a:t>อาจารย์กฤตยา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gsana New"/>
                          <a:ea typeface="Cordia New"/>
                        </a:rPr>
                        <a:t>  </a:t>
                      </a: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Angsana New"/>
                          <a:cs typeface="Cordia New"/>
                        </a:rPr>
                        <a:t>อกนิษฐ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gsana New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Browallia New"/>
                          <a:cs typeface="Angsana New"/>
                        </a:rPr>
                        <a:t>มหาวิทยาลัยมหิด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9800"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gsana New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Browallia New"/>
                          <a:cs typeface="Angsana New"/>
                        </a:rPr>
                        <a:t>อาจารย์เอกนรินทร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gsana New"/>
                          <a:ea typeface="Cordia New"/>
                        </a:rPr>
                        <a:t>  </a:t>
                      </a: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Angsana New"/>
                          <a:cs typeface="Cordia New"/>
                        </a:rPr>
                        <a:t>เอกอริยะศิร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Browallia New"/>
                          <a:cs typeface="Angsana New"/>
                        </a:rPr>
                        <a:t>ผู้ช่วยอธิการบดีฝ่ายวิชาการ</a:t>
                      </a:r>
                      <a:br>
                        <a:rPr sz="1600"/>
                      </a:b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Angsana New"/>
                          <a:cs typeface="Cordia New"/>
                        </a:rPr>
                        <a:t>วิทยาเขตปัตตาน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Browallia New"/>
                          <a:cs typeface="Angsana New"/>
                        </a:rPr>
                        <a:t>มหาวิทยาลัยสงขลานครินทร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080"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gsana New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Browallia New"/>
                          <a:cs typeface="Angsana New"/>
                        </a:rPr>
                        <a:t>นางวิภาพรรณ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gsana New"/>
                          <a:ea typeface="Cordia New"/>
                        </a:rPr>
                        <a:t>  </a:t>
                      </a: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Angsana New"/>
                          <a:cs typeface="Cordia New"/>
                        </a:rPr>
                        <a:t>อินนุรักษ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gsana New"/>
                          <a:ea typeface="Cordia New"/>
                        </a:rPr>
                        <a:t>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Browallia New"/>
                          <a:cs typeface="Angsana New"/>
                        </a:rPr>
                        <a:t>นักวิชาการอุดมศึกษ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Browallia New"/>
                          <a:cs typeface="Angsana New"/>
                        </a:rPr>
                        <a:t>มหาวิทยาลัยสงขลานครินทร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9800"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gsana New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Browallia New"/>
                          <a:cs typeface="Angsana New"/>
                        </a:rPr>
                        <a:t>รศ</a:t>
                      </a: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Browallia New"/>
                          <a:ea typeface="Angsana New"/>
                        </a:rPr>
                        <a:t>.</a:t>
                      </a: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Browallia New"/>
                          <a:cs typeface="Angsana New"/>
                        </a:rPr>
                        <a:t>เพ็ญศิริ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gsana New"/>
                          <a:ea typeface="Cordia New"/>
                        </a:rPr>
                        <a:t>  </a:t>
                      </a: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Angsana New"/>
                          <a:cs typeface="Cordia New"/>
                        </a:rPr>
                        <a:t>นภีรงค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Browallia New"/>
                          <a:cs typeface="Angsana New"/>
                        </a:rPr>
                        <a:t>รองคณบดีฝ่ายวิชาการ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gsana New"/>
                          <a:ea typeface="Cordia New"/>
                        </a:rPr>
                        <a:t> </a:t>
                      </a:r>
                      <a:br>
                        <a:rPr sz="1600"/>
                      </a:b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Angsana New"/>
                          <a:cs typeface="Cordia New"/>
                        </a:rPr>
                        <a:t>บัณฑิตวิทยาลัย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Browallia New"/>
                          <a:cs typeface="Angsana New"/>
                        </a:rPr>
                        <a:t>มหาวิทยาลัยนเรศวร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080"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gsana New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Browallia New"/>
                          <a:cs typeface="Angsana New"/>
                        </a:rPr>
                        <a:t>นางเจริญใ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gsana New"/>
                          <a:ea typeface="Cordia New"/>
                        </a:rPr>
                        <a:t>  </a:t>
                      </a: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Angsana New"/>
                          <a:cs typeface="Cordia New"/>
                        </a:rPr>
                        <a:t>กุลดิล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gsana New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Browallia New"/>
                          <a:cs typeface="Angsana New"/>
                        </a:rPr>
                        <a:t>มหาวิทยาลัยมหาสารคา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9800"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gsana New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Browallia New"/>
                          <a:cs typeface="Angsana New"/>
                        </a:rPr>
                        <a:t>ผศ</a:t>
                      </a: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Browallia New"/>
                          <a:ea typeface="Angsana New"/>
                        </a:rPr>
                        <a:t>.</a:t>
                      </a: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Browallia New"/>
                          <a:cs typeface="Angsana New"/>
                        </a:rPr>
                        <a:t>ดร</a:t>
                      </a: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Browallia New"/>
                          <a:ea typeface="Angsana New"/>
                        </a:rPr>
                        <a:t>.</a:t>
                      </a: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Browallia New"/>
                          <a:cs typeface="Angsana New"/>
                        </a:rPr>
                        <a:t>ผดุงศักดิ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gsana New"/>
                          <a:ea typeface="Cordia New"/>
                        </a:rPr>
                        <a:t>  </a:t>
                      </a: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Angsana New"/>
                          <a:cs typeface="Cordia New"/>
                        </a:rPr>
                        <a:t>สุขสอา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Browallia New"/>
                          <a:cs typeface="Angsana New"/>
                        </a:rPr>
                        <a:t>ผู้อำนวยการโครงการสหกิจศึกษาและพัฒนาอาชีพ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Browallia New"/>
                          <a:cs typeface="Angsana New"/>
                        </a:rPr>
                        <a:t>มหาวิทยาลัยวลัยลักษณ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080"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gsana New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Browallia New"/>
                          <a:cs typeface="Angsana New"/>
                        </a:rPr>
                        <a:t>ดร</a:t>
                      </a: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Browallia New"/>
                          <a:ea typeface="Angsana New"/>
                        </a:rPr>
                        <a:t>.</a:t>
                      </a: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Browallia New"/>
                          <a:cs typeface="Angsana New"/>
                        </a:rPr>
                        <a:t>พัชร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gsana New"/>
                          <a:ea typeface="Cordia New"/>
                        </a:rPr>
                        <a:t>  </a:t>
                      </a: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Angsana New"/>
                          <a:cs typeface="Cordia New"/>
                        </a:rPr>
                        <a:t>ประเศรษฐสุต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gsana New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Browallia New"/>
                          <a:cs typeface="Angsana New"/>
                        </a:rPr>
                        <a:t>มหาวิทยาลัยวลัยลักษณ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080"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gsana New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Browallia New"/>
                          <a:cs typeface="Angsana New"/>
                        </a:rPr>
                        <a:t>อาจารย์ธนรั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gsana New"/>
                          <a:ea typeface="Cordia New"/>
                        </a:rPr>
                        <a:t>  </a:t>
                      </a: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Angsana New"/>
                          <a:cs typeface="Cordia New"/>
                        </a:rPr>
                        <a:t>ฉัตรดอน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gsana New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Browallia New"/>
                          <a:cs typeface="Angsana New"/>
                        </a:rPr>
                        <a:t>มหาวิทยาลัยมหาสารคา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080"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gsana New"/>
                          <a:ea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Browallia New"/>
                          <a:cs typeface="Angsana New"/>
                        </a:rPr>
                        <a:t>อาจารย์ชัยวัฒน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gsana New"/>
                          <a:ea typeface="Cordia New"/>
                        </a:rPr>
                        <a:t>  </a:t>
                      </a: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Angsana New"/>
                          <a:cs typeface="Cordia New"/>
                        </a:rPr>
                        <a:t>สุภัควรกุ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gsana New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Browallia New"/>
                          <a:cs typeface="Angsana New"/>
                        </a:rPr>
                        <a:t>มหาวิทยาลัยมหาสารคา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080"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gsana New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Browallia New"/>
                          <a:cs typeface="Angsana New"/>
                        </a:rPr>
                        <a:t>อาจารย์ประยงค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gsana New"/>
                          <a:ea typeface="Cordia New"/>
                        </a:rPr>
                        <a:t>  </a:t>
                      </a: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Angsana New"/>
                          <a:cs typeface="Cordia New"/>
                        </a:rPr>
                        <a:t>หัตถพรห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gsana New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Browallia New"/>
                          <a:cs typeface="Angsana New"/>
                        </a:rPr>
                        <a:t>มหาวิทยาลัยมหาสารคา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080"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gsana New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Browallia New"/>
                          <a:cs typeface="Angsana New"/>
                        </a:rPr>
                        <a:t>อาจารย์ธนัณชัย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gsana New"/>
                          <a:ea typeface="Cordia New"/>
                        </a:rPr>
                        <a:t>  </a:t>
                      </a: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Angsana New"/>
                          <a:cs typeface="Cordia New"/>
                        </a:rPr>
                        <a:t>สิงห์มาตย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gsana New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Browallia New"/>
                          <a:cs typeface="Angsana New"/>
                        </a:rPr>
                        <a:t>มหาวิทยาลัยมหาสารคา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080"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gsana New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Browallia New"/>
                          <a:cs typeface="Angsana New"/>
                        </a:rPr>
                        <a:t>ผศ</a:t>
                      </a: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Browallia New"/>
                          <a:ea typeface="Angsana New"/>
                        </a:rPr>
                        <a:t>.</a:t>
                      </a: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Browallia New"/>
                          <a:cs typeface="Angsana New"/>
                        </a:rPr>
                        <a:t>บุญชน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gsana New"/>
                          <a:ea typeface="Cordia New"/>
                        </a:rPr>
                        <a:t>  </a:t>
                      </a: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Angsana New"/>
                          <a:cs typeface="Cordia New"/>
                        </a:rPr>
                        <a:t>ยีสารพัฒน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gsana New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Browallia New"/>
                          <a:cs typeface="Angsana New"/>
                        </a:rPr>
                        <a:t>มหาวิทยาลัยมหาสารคา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15328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6600cc"/>
                </a:solidFill>
                <a:latin typeface="Calibri"/>
                <a:cs typeface="Angsana New"/>
              </a:rPr>
              <a:t>การพัฒนาหลักสูตรและการจัดกระบวนการเรียนการสอน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28600" y="1600200"/>
            <a:ext cx="8686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3333cc"/>
                </a:solidFill>
                <a:latin typeface="Calibri"/>
                <a:cs typeface="Cordia New"/>
              </a:rPr>
              <a:t>เกณฑ์ </a:t>
            </a:r>
            <a:r>
              <a:rPr b="0" lang="en-US" sz="3200" spc="-1" strike="noStrike">
                <a:solidFill>
                  <a:srgbClr val="3333cc"/>
                </a:solidFill>
                <a:latin typeface="Calibri"/>
              </a:rPr>
              <a:t>TQ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3333cc"/>
                </a:solidFill>
                <a:latin typeface="Calibri"/>
                <a:cs typeface="Cordia New"/>
              </a:rPr>
              <a:t>การปรับปรุงหลักสูตรตามกรอบ สกอ</a:t>
            </a:r>
            <a:r>
              <a:rPr b="0" lang="th-TH" sz="3200" spc="-1" strike="noStrike">
                <a:solidFill>
                  <a:srgbClr val="3333cc"/>
                </a:solidFill>
                <a:latin typeface="Calibri"/>
                <a:ea typeface="Cordia New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3333cc"/>
                </a:solidFill>
                <a:latin typeface="Calibri"/>
                <a:cs typeface="Cordia New"/>
              </a:rPr>
              <a:t>การจัดการหลักสูตรจากสภาวิชาชีพต่างๆ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3333cc"/>
                </a:solidFill>
                <a:latin typeface="Calibri"/>
                <a:cs typeface="Cordia New"/>
              </a:rPr>
              <a:t>การบูรณาการรายวิชา และกระบวนการจัดการเรียนการสอนแบบบูรณาการ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3333cc"/>
                </a:solidFill>
                <a:latin typeface="Calibri"/>
                <a:cs typeface="Cordia New"/>
              </a:rPr>
              <a:t>การกำหนดอัตลักษณ์ของสาขาวิชาและหลักสูตร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3333cc"/>
                </a:solidFill>
                <a:latin typeface="Calibri"/>
                <a:cs typeface="Cordia New"/>
              </a:rPr>
              <a:t>บริบทสังคม เศรษฐกิจ เทคโนโลยี และความมั่นคงทางการเมืองที่เปลี่ยนแปลงตลอดเวลาทั้งในประเทศและภายนอกประเทศ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2T09:23:14Z</dcterms:created>
  <dc:creator>user</dc:creator>
  <dc:description/>
  <dc:language>en-US</dc:language>
  <cp:lastModifiedBy>user</cp:lastModifiedBy>
  <dcterms:modified xsi:type="dcterms:W3CDTF">2010-07-21T08:20:45Z</dcterms:modified>
  <cp:revision>11</cp:revision>
  <dc:subject/>
  <dc:title>Slide 1</dc:title>
</cp:coreProperties>
</file>